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2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5.jpeg" ContentType="image/jpeg"/>
  <Override PartName="/ppt/media/image3.png" ContentType="image/pn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1FDC-2398-4AC5-90FF-F93C979C0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DD4E-B301-44CC-9B34-F388AF7C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A422-37A5-465D-8068-7617556C5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E802-FB82-464F-997A-65B738EDB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3D1A-B2CF-4C0E-A34F-8823FF8B7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EAFC-4702-4A51-98BE-8C6E78AB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28E4-39C4-47DE-8402-DA59561B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939F-B84D-4DFE-BD85-BAB825F9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578F-BDC2-44DA-B6F4-D7B8F8D2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2C90-97B9-4015-A2DA-184E346B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41E5-A397-4D78-BDED-98BF420C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A134-EDA2-4AE0-ADDF-16D70544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BE66-0E49-4B1E-BB19-4A5EF12E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9896-3023-476D-AC9E-4C96D8C1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B612-F35A-42F1-9DF2-00C2CBAB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FCFD-B485-40FA-9F08-5B4BB417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B9C3-94DB-4138-9B53-A31BE2E1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C85B2-0BE5-4450-A012-F45CB5604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4D73F-F2E0-4FE6-A35C-4ACB9691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03297-C71D-45CB-BFB5-E08CD259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06619-15E0-41B5-971D-DF85B0F9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F44EB-053A-475D-9652-98C61C73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4455-7E0C-4A67-B48F-B6E6C51C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78C53-DDAF-415C-8612-BE281EDD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C90B0-F4CA-4085-BD47-7347A160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66B3B-C3D9-4BB3-9752-6E286500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AA6BD-90A7-41FF-8544-BD1CEE0F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65DE9-FDE1-42FD-B780-30EA57FA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D94CF-4A3F-4299-8BF7-09E517DDB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6AC6D-1F88-4453-BE7B-E6F0EC9AB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2BDD8D-24C5-450E-A693-4BD7D35F5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27505D-6A42-450D-970F-6ACE97B5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ED12F9-5C25-4C42-82A5-87988E11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6CC1-E037-401D-A68A-583AE29D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2BD23C-46E0-4B42-AE06-D7A052C6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08BA23-29AA-42A5-A4FB-D16DD9C0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0F7178-984A-4735-8A39-F9743806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F078AE-B2E5-440A-B4DB-9AF11B6B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FAB57E-5447-499E-8AB6-DB4C4312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8A61D0-5B22-428C-AD34-6B4FD2F0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74C930-E686-4AC6-B914-9841C55F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AEA825-9AED-45E7-803B-54A7C71AA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FB5B75-F48E-450E-BEB2-0B2EFDDE2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CE33-572E-4515-B261-470A5414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BBBE-6DE8-45F8-81B0-10B743E8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8060-B67E-46D4-8A5A-9D479DEF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9207-69EC-404C-8F8C-E81AD99B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8541-9EB7-420A-AF78-A3531A0C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9E28-8041-4679-962A-B0C785B1B11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5AB1-98B2-4ACF-A3EE-E3D6E52F6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8D9F-725B-4CC3-8F88-D81672233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821C-AB5C-4544-9C4B-70975D7F0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0" y="1643040"/>
            <a:ext cx="9144000" cy="18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2060"/>
                </a:solidFill>
                <a:latin typeface="Cambria"/>
              </a:rPr>
              <a:t>ПАТОЛОГИЈА</a:t>
            </a:r>
            <a:r>
              <a:rPr b="1" lang="sr-Latn-CS" sz="4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4400" spc="-1" strike="noStrike">
                <a:solidFill>
                  <a:srgbClr val="002060"/>
                </a:solidFill>
                <a:latin typeface="Cambria"/>
              </a:rPr>
              <a:t>ТЕМПОРОМАНДИБУЛАРНОГ</a:t>
            </a:r>
            <a:r>
              <a:rPr b="1" lang="sr-Latn-CS" sz="4400" spc="-1" strike="noStrike">
                <a:solidFill>
                  <a:srgbClr val="002060"/>
                </a:solidFill>
                <a:latin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2060"/>
                </a:solidFill>
                <a:latin typeface="Cambria"/>
              </a:rPr>
              <a:t>ЗГЛО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1415880" y="53308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mbria"/>
              </a:rPr>
              <a:t>Доц др Слободан Лончареви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3" descr="memo grb copy"/>
          <p:cNvPicPr/>
          <p:nvPr/>
        </p:nvPicPr>
        <p:blipFill>
          <a:blip r:embed="rId2"/>
          <a:srcRect l="47095" t="0" r="41659" b="0"/>
          <a:stretch/>
        </p:blipFill>
        <p:spPr>
          <a:xfrm>
            <a:off x="762120" y="457200"/>
            <a:ext cx="653760" cy="10666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"/>
          <p:cNvSpPr/>
          <p:nvPr/>
        </p:nvSpPr>
        <p:spPr>
          <a:xfrm>
            <a:off x="971640" y="4149720"/>
            <a:ext cx="708660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Cambria"/>
              </a:rPr>
              <a:t>Назив предмета: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МАКСИЛОФАЦИЈАЛНА</a:t>
            </a:r>
            <a:r>
              <a:rPr b="1" lang="en-US" sz="1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ХИРУРГ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Cambria"/>
              </a:rPr>
              <a:t>Предавање бр. 1</a:t>
            </a: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1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Час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: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 0</a:t>
            </a:r>
            <a:r>
              <a:rPr b="1" lang="en-US" sz="1400" spc="-1" strike="noStrike">
                <a:solidFill>
                  <a:srgbClr val="ffffff"/>
                </a:solidFill>
                <a:latin typeface="Cambri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TextBox 9" descr=""/>
          <p:cNvPicPr/>
          <p:nvPr/>
        </p:nvPicPr>
        <p:blipFill>
          <a:blip r:embed="rId3"/>
          <a:stretch/>
        </p:blipFill>
        <p:spPr>
          <a:xfrm>
            <a:off x="1504800" y="560520"/>
            <a:ext cx="554832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ЗАПАЉЕЊА</a:t>
            </a:r>
            <a:r>
              <a:rPr b="1" lang="sr-Latn-CS" sz="4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ТМ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2876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к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нфекциј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рем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анир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ширењ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глобн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вршин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кроз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искус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глобних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вршин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з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чег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истич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в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слов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станак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фиброзн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штан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нкилоз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шт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икад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ожем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бит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игурн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л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шл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реверзибилног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штећењ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делумзглоб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бисм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пречил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нкилоз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 непосредн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миривањ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кутних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наков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апаљењ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требн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чет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ктивним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ежбам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тварањ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ацијент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авету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ежб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тварањ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јав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болн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нзаци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15-20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ут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ан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одећ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ом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ачун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евијаци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андибул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28760" y="1600200"/>
            <a:ext cx="8486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еуматских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апаљењ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ног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чешћ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г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специфичних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ледећих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бољењ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ож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бит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ахваћен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њовиличн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глоб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pol</a:t>
            </a:r>
            <a:r>
              <a:rPr b="0" i="1" lang="sr-Latn-CS" sz="2000" spc="-1" strike="noStrike">
                <a:solidFill>
                  <a:srgbClr val="000000"/>
                </a:solidFill>
                <a:latin typeface="Cambria"/>
              </a:rPr>
              <a:t>y</a:t>
            </a: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arthritis</a:t>
            </a:r>
            <a:r>
              <a:rPr b="0" i="1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rheuma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spond</a:t>
            </a:r>
            <a:r>
              <a:rPr b="0" i="1" lang="sr-Latn-CS" sz="2000" spc="-1" strike="noStrike">
                <a:solidFill>
                  <a:srgbClr val="000000"/>
                </a:solidFill>
                <a:latin typeface="Cambria"/>
              </a:rPr>
              <a:t>y</a:t>
            </a: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loarthri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anc</a:t>
            </a:r>
            <a:r>
              <a:rPr b="0" i="1" lang="sr-Latn-CS" sz="2000" spc="-1" strike="noStrike">
                <a:solidFill>
                  <a:srgbClr val="000000"/>
                </a:solidFill>
                <a:latin typeface="Cambria"/>
              </a:rPr>
              <a:t>y</a:t>
            </a: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lopoetica</a:t>
            </a:r>
            <a:r>
              <a:rPr b="0" i="1" lang="sr-Latn-CS" sz="2000" spc="-1" strike="noStrike">
                <a:solidFill>
                  <a:srgbClr val="000000"/>
                </a:solidFill>
                <a:latin typeface="Cambri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morbus</a:t>
            </a:r>
            <a:r>
              <a:rPr b="0" i="1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Bechtere</a:t>
            </a:r>
            <a:r>
              <a:rPr b="0" i="1" lang="sr-Latn-CS" sz="2000" spc="-1" strike="noStrike">
                <a:solidFill>
                  <a:srgbClr val="000000"/>
                </a:solidFill>
                <a:latin typeface="Cambria"/>
              </a:rPr>
              <a:t>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psori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TMJ_arthritis"/>
          <p:cNvPicPr/>
          <p:nvPr/>
        </p:nvPicPr>
        <p:blipFill>
          <a:blip r:embed="rId2"/>
          <a:stretch/>
        </p:blipFill>
        <p:spPr>
          <a:xfrm>
            <a:off x="5572080" y="3071880"/>
            <a:ext cx="3357720" cy="33382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РЕУМАТОИДНИ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АРТРИТ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сто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нстантн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олов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дно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б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ј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јачавај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тварањ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тварањ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егоб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стај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дмах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а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еспецифичног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ртритис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ећ постепен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-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еколик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есец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чак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еколик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годи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четк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бољењ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арактеристичн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еуматск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ртритис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хват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ш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ов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егоб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ремено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јачавају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ом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в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ећег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ремећај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функци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хваћеног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болел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личн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ов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олн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дир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а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в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руг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)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ављај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репитациј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етки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лучајевим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ављ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ток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дел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6429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РЕУМАТОИДНИ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АРТРИТ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РЕУМАТОИДНИ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АРТРИТ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2560" y="126036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четно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тадијум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ог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иметит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оме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ендген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нимцим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знапредовали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лучајевим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ож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дет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еструкциј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д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гор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нтур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ндил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пондилоартритис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нкилопоетик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д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овонастал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шта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труктур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апут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фос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андибуларис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стовремено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ужавањ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них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остор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зузетн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етк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в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имптом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бољењ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стан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дел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њовиличних зглобов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к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стој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умњ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требн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ацијент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дмах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путит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нтернист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еуматолог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чем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ежишт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ерапи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нтернистичко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лану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треб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арадњ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томатолог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ад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вентив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анаци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уб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тклањањ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огућих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грижајних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номалиј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42920" y="121428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160560" indent="-16056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блуксациј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њовиличног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ста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јчешћ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след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искоординаци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крет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искус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глобн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главиц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ј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крећ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кцијо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ter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oideus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teralis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ј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ипај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дње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ел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апсул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тј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искус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руг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дњој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тран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ртикуларног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ставк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0560" indent="-16056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ред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нкоординаци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вог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ишић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говор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"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лабављењ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апсул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e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"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а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огуће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зрок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блуксаци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0560" indent="-16056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блуксаци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рај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тварањ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б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једн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глобн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глав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аузим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бтуберкуларн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туберкуларн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ложај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шт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аћен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чујно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репитацијо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рај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тварањ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атварањ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апут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андибул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понтан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враћ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вобитн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ложај</a:t>
            </a:r>
            <a:r>
              <a:rPr b="0" lang="sr-R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0560" indent="-16056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Чујн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репитаци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стај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след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тог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шт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инхроног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крет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искус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апут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андибул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м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пред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већ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глав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д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спред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искус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лаз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к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његов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дњ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виц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дар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туберкулу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ртикулар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аузим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б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туберкуларн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ложај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шт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аћен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чујно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репитациј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4287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СУБЛУКСАЦИЈА</a:t>
            </a:r>
            <a:r>
              <a:rPr b="1" lang="sr-Latn-CS" sz="4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ТМ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13840" y="1143000"/>
            <a:ext cx="89298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блуксациј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виличног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хроничн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бољење</a:t>
            </a:r>
            <a:r>
              <a:rPr b="0" lang="sr-R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анифесту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јачани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тварање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без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евијацијо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андибуле</a:t>
            </a:r>
            <a:r>
              <a:rPr b="0" lang="sr-R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четк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тегоб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анифестуј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репитацијам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 чујн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ацијент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колину</a:t>
            </a:r>
            <a:r>
              <a:rPr b="0" lang="sr-R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Т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чујн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репитаци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јчешћ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разлог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тражењ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едицинск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моћи</a:t>
            </a:r>
            <a:r>
              <a:rPr b="0" lang="sr-R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бостран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блуксаци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тварањ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блик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лов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терминални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репитацијам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б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R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нач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њ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вилиц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аузим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ложај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блуксације</a:t>
            </a:r>
            <a:r>
              <a:rPr b="0" lang="sr-R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евијаци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андибул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аксималн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творени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стим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ема</a:t>
            </a:r>
            <a:r>
              <a:rPr b="0" lang="sr-R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Размак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змеђ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ечивних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виц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екутић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5-7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м</a:t>
            </a:r>
            <a:r>
              <a:rPr b="0" lang="sr-R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глобн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јам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азн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једностран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блуксаци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зражен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евијаци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рај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тварањ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дравој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тран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 Испред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трагус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х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ип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азан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остор</a:t>
            </a:r>
            <a:r>
              <a:rPr b="0" lang="sr-R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апаж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чујн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репитациј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тран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блуксације</a:t>
            </a:r>
            <a:r>
              <a:rPr b="0" lang="sr-R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4287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СУБЛУКСАЦИЈА</a:t>
            </a:r>
            <a:r>
              <a:rPr b="1" lang="sr-Latn-CS" sz="4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ТМ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СУБЛУКСАЦИЈА</a:t>
            </a:r>
            <a:r>
              <a:rPr b="1" lang="sr-Latn-CS" sz="4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ТМ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840" y="1214280"/>
            <a:ext cx="8929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59480" indent="-15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мајућ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вид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ублуксациј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стај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след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оремећај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функциј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sr-Latn-R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sr-Latn-RS" sz="1800" spc="-1" strike="noStrike">
                <a:solidFill>
                  <a:srgbClr val="000000"/>
                </a:solidFill>
                <a:latin typeface="Arial"/>
              </a:rPr>
              <a:t>pterygoideus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1800" spc="-1" strike="noStrike">
                <a:solidFill>
                  <a:srgbClr val="000000"/>
                </a:solidFill>
                <a:latin typeface="Arial"/>
              </a:rPr>
              <a:t>lateralis-a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едност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ај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функционалној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терапији</a:t>
            </a:r>
            <a:r>
              <a:rPr b="0" lang="sr-R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480" indent="-15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Функционалн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вежб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описао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ешом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shaum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1960.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године</a:t>
            </a:r>
            <a:r>
              <a:rPr b="0" lang="sr-R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480" indent="-15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ацијент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каж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тав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врх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језик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озад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еко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епц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480" indent="-15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ацијент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отвар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још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ок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врх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језик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контакт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еким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епцем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олако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затвар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језик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лаз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стом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ес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480" indent="-15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тај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чин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пречав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евијациј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вилиц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480" indent="-15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Кад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аксимално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отвореним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стим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евијациј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пр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лев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тран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аветуј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врх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језик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буд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редин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еког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епц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већ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омерен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десно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к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задњем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олар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;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знач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врх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језик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тално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упротној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тран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од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кретањ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аксимално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отвореним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стим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Ов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вежб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ацијент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звод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ед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огледалом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о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еколико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инут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, 2-3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ут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ан</a:t>
            </a:r>
            <a:r>
              <a:rPr b="0" lang="sr-Latn-R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480" indent="-15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оред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функционалн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терапиј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рочито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ечјем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зраст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ог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користит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мобилизацион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прав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кој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ограничавај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окрет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вилиц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одраслих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ем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клерозантних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редстав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чем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едикамент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бризгав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едњ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ео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капсул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зазивајућ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терилно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запаљењ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касниј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фиброз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тог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ткив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чим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ограничавај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окрет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зглобу</a:t>
            </a:r>
            <a:r>
              <a:rPr b="0" lang="sr-Latn-R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28760" y="1857240"/>
            <a:ext cx="8229600" cy="34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граничен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кретљивост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тпун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могућност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крет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њовиличном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глоб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ож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бит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словљен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менам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амом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глоб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ад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говорим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авој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нкилоз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k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sis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era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ад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крет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глоб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граничен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след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атолошких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мен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ан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нач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словљен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екстраартикуларн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говор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лажној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нкилоз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сеудоанкилоз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k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sis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puria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АНКИЛ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8786880" cy="35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217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нкилоз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разарањ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хрскавичног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ткив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уте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нфекци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траум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кон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разарањ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хркавичног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ткив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искус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а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шт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писан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thropathia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ormans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)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иректног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нтакт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штан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рж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ндил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к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искус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разорен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нтакт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штани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ткиво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глобн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јаме</a:t>
            </a:r>
            <a:r>
              <a:rPr b="0" lang="sr-Latn-R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217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тварање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гранулационог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ткив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фиброзног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рај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штаног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рашћења</a:t>
            </a:r>
            <a:r>
              <a:rPr b="0" lang="sr-Latn-R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217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колик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искус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елимичн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чуван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ста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фиброзн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нкилоз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217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Траум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а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етиолошк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фактор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станк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нкилоз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чешћ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лађих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соба</a:t>
            </a:r>
            <a:r>
              <a:rPr b="0" lang="sr-Latn-R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F2"/>
          <p:cNvPicPr/>
          <p:nvPr/>
        </p:nvPicPr>
        <p:blipFill>
          <a:blip r:embed="rId2"/>
          <a:srcRect l="0" t="0" r="0" b="9101"/>
          <a:stretch/>
        </p:blipFill>
        <p:spPr>
          <a:xfrm>
            <a:off x="2214720" y="4429080"/>
            <a:ext cx="5500440" cy="21430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АНКИЛ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АНКИЛ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0920" y="121428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шта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нкилоз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твар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штан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асив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ак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агитално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ак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рансверзално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авц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змеђ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амус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андибул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аз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лобање</a:t>
            </a:r>
            <a:r>
              <a:rPr b="0" lang="sr-Latn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авил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драв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казу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бедљив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атолошк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омене</a:t>
            </a:r>
            <a:r>
              <a:rPr b="0" lang="sr-Latn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перацијо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нкилоз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орај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могућит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крет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еформитет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јчешћ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ешав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вршетк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аста</a:t>
            </a:r>
            <a:r>
              <a:rPr b="0" lang="sr-Latn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перацијо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нкилоз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акођ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могућавам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лече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ногобројних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ариозних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уба</a:t>
            </a:r>
            <a:r>
              <a:rPr b="0" lang="sr-Latn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фиброз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нкилоз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ад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ндилектомиј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шта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нкилоз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дстрањуј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штан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кив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змеђ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амус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андибул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аз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лоба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новн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споставља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едуцира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функци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ТЕМПОРОМАНДИБУЛАРНИ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ЗГЛО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0920" y="1571400"/>
            <a:ext cx="571500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mbria"/>
              </a:rPr>
              <a:t>Доњовилични</a:t>
            </a:r>
            <a:r>
              <a:rPr b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ambria"/>
              </a:rPr>
              <a:t>зглоб</a:t>
            </a:r>
            <a:r>
              <a:rPr b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ambria"/>
              </a:rPr>
              <a:t>једини</a:t>
            </a:r>
            <a:r>
              <a:rPr b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ambria"/>
              </a:rPr>
              <a:t>покретни</a:t>
            </a:r>
            <a:r>
              <a:rPr b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ambria"/>
              </a:rPr>
              <a:t>зглоб</a:t>
            </a:r>
            <a:r>
              <a:rPr b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ambria"/>
              </a:rPr>
              <a:t>главе</a:t>
            </a:r>
            <a:r>
              <a:rPr b="1" lang="sr-Latn-CS" sz="22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ambria"/>
              </a:rPr>
              <a:t>састав</a:t>
            </a:r>
            <a:r>
              <a:rPr b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ambria"/>
              </a:rPr>
              <a:t>доњовиличног</a:t>
            </a:r>
            <a:r>
              <a:rPr b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ambria"/>
              </a:rPr>
              <a:t>улазе</a:t>
            </a:r>
            <a:r>
              <a:rPr b="1" lang="sr-Latn-CS" sz="22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глав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caput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mandibulae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вржиц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tuberculum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articulare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лич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ам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fossa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mandibularis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н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лут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discus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articularis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чаур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capsula</a:t>
            </a:r>
            <a:r>
              <a:rPr b="0" i="1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articularis</a:t>
            </a:r>
            <a:r>
              <a:rPr b="0" i="1" lang="sr-Latn-CS" sz="2400" spc="-1" strike="noStrike">
                <a:solidFill>
                  <a:srgbClr val="000000"/>
                </a:solidFill>
                <a:latin typeface="Cambri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иновијал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п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membrana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s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y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novialis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tmj1"/>
          <p:cNvPicPr/>
          <p:nvPr/>
        </p:nvPicPr>
        <p:blipFill>
          <a:blip r:embed="rId2"/>
          <a:stretch/>
        </p:blipFill>
        <p:spPr>
          <a:xfrm>
            <a:off x="5643720" y="2214720"/>
            <a:ext cx="3335040" cy="3357360"/>
          </a:xfrm>
          <a:prstGeom prst="rect">
            <a:avLst/>
          </a:prstGeom>
          <a:ln w="0">
            <a:noFill/>
          </a:ln>
        </p:spPr>
      </p:pic>
      <p:sp>
        <p:nvSpPr>
          <p:cNvPr id="172" name="TextBox 4"/>
          <p:cNvSpPr/>
          <p:nvPr/>
        </p:nvSpPr>
        <p:spPr>
          <a:xfrm>
            <a:off x="-1071000" y="-42876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Cambria"/>
              </a:rPr>
              <a:t>membrana</a:t>
            </a:r>
            <a:r>
              <a:rPr b="0" i="1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mbria"/>
              </a:rPr>
              <a:t>s</a:t>
            </a:r>
            <a:r>
              <a:rPr b="0" i="1" lang="sr-Latn-CS" sz="1800" spc="-1" strike="noStrike">
                <a:solidFill>
                  <a:srgbClr val="000000"/>
                </a:solidFill>
                <a:latin typeface="Cambria"/>
              </a:rPr>
              <a:t>y</a:t>
            </a:r>
            <a:r>
              <a:rPr b="0" i="1" lang="en-US" sz="1800" spc="-1" strike="noStrike">
                <a:solidFill>
                  <a:srgbClr val="000000"/>
                </a:solidFill>
                <a:latin typeface="Cambria"/>
              </a:rPr>
              <a:t>novialis</a:t>
            </a:r>
            <a:r>
              <a:rPr b="0" i="1" lang="sr-Latn-CS" sz="18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62120" y="1295280"/>
            <a:ext cx="7696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Темпоромадибуларни поремећаји дефини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шу</a:t>
            </a: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 се као 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група</a:t>
            </a: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 орофацијалних поремећаја с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а</a:t>
            </a: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 бол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ом</a:t>
            </a: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 у преаурикуларном подручју, 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виличним</a:t>
            </a: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 зглобовима (ТМЗ-у) или жв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каћим</a:t>
            </a: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 мишићима с ограничењима у распону и девијацијама 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покрета</a:t>
            </a: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 доње 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вилице</a:t>
            </a: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и</a:t>
            </a: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 звуковима ТМЗ-а т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о</a:t>
            </a: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ком жвака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000" spc="-1" strike="noStrike">
                <a:solidFill>
                  <a:srgbClr val="002060"/>
                </a:solidFill>
                <a:latin typeface="Arial"/>
              </a:rPr>
              <a:t>TMP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 (темпоромандибулар</a:t>
            </a:r>
            <a:r>
              <a:rPr b="1" lang="sr-CS" sz="2000" spc="-1" strike="noStrike">
                <a:solidFill>
                  <a:srgbClr val="002060"/>
                </a:solidFill>
                <a:latin typeface="Cambria"/>
              </a:rPr>
              <a:t>ни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 бол)</a:t>
            </a: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 је уверљиво најчешћ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и</a:t>
            </a: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 бол у орофацијалном подруч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2"/>
          <a:stretch/>
        </p:blipFill>
        <p:spPr>
          <a:xfrm>
            <a:off x="4511520" y="3780000"/>
            <a:ext cx="2065320" cy="26812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3"/>
          <a:stretch/>
        </p:blipFill>
        <p:spPr>
          <a:xfrm>
            <a:off x="2451240" y="3780000"/>
            <a:ext cx="2144520" cy="2717640"/>
          </a:xfrm>
          <a:prstGeom prst="rect">
            <a:avLst/>
          </a:prstGeom>
          <a:ln w="0">
            <a:noFill/>
          </a:ln>
        </p:spPr>
      </p:pic>
      <p:sp>
        <p:nvSpPr>
          <p:cNvPr id="213" name="TextBox 7"/>
          <p:cNvSpPr/>
          <p:nvPr/>
        </p:nvSpPr>
        <p:spPr>
          <a:xfrm>
            <a:off x="785880" y="-7128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ТЕМПОРОМАНДИБУЛАРНИ ПОРЕМЕЋА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14200" y="1357200"/>
            <a:ext cx="47894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Узроци темпоромандибуларног бола могу бит</a:t>
            </a:r>
            <a:r>
              <a:rPr b="1" lang="sr-Latn-CS" sz="2400" spc="-1" strike="noStrike">
                <a:solidFill>
                  <a:srgbClr val="002060"/>
                </a:solidFill>
                <a:latin typeface="Cambria"/>
              </a:rPr>
              <a:t>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mbria"/>
              </a:rPr>
              <a:t>поремећај оклузиј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mbria"/>
              </a:rPr>
              <a:t>дубоки болни 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на</a:t>
            </a:r>
            <a:r>
              <a:rPr b="1" lang="hr-HR" sz="2400" spc="-1" strike="noStrike">
                <a:solidFill>
                  <a:srgbClr val="002060"/>
                </a:solidFill>
                <a:latin typeface="Cambria"/>
              </a:rPr>
              <a:t>дражај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mbria"/>
              </a:rPr>
              <a:t>парафункци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оналне</a:t>
            </a:r>
            <a:r>
              <a:rPr b="1" lang="hr-HR" sz="2400" spc="-1" strike="noStrike">
                <a:solidFill>
                  <a:srgbClr val="002060"/>
                </a:solidFill>
                <a:latin typeface="Cambria"/>
              </a:rPr>
              <a:t> активно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mbria"/>
              </a:rPr>
              <a:t>психолошки проблеми повезани с емоционалним стрес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mbria"/>
              </a:rPr>
              <a:t>психијатријски поремећај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2"/>
          <a:stretch/>
        </p:blipFill>
        <p:spPr>
          <a:xfrm>
            <a:off x="5102280" y="1365120"/>
            <a:ext cx="3438360" cy="4664160"/>
          </a:xfrm>
          <a:prstGeom prst="rect">
            <a:avLst/>
          </a:prstGeom>
          <a:ln w="0">
            <a:noFill/>
          </a:ln>
        </p:spPr>
      </p:pic>
      <p:sp>
        <p:nvSpPr>
          <p:cNvPr id="216" name="TextBox 6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Cambria"/>
              </a:rPr>
              <a:t>ЕТИОЛОГИЈА ТЕМПОРОМАНДИБУЛАРНОГ ПОРЕМЕЋА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4267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Темпоромандибуларни бол се јавља  код 4-12% опште популације  жене: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мушкарци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-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2:1</a:t>
            </a:r>
            <a:r>
              <a:rPr b="1" lang="sr-Latn-RS" sz="2400" spc="-1" strike="noStrike">
                <a:solidFill>
                  <a:srgbClr val="00206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Знаци и симптоми достижу максимум код особа старости 20-40</a:t>
            </a:r>
            <a:r>
              <a:rPr b="1" lang="sr-Latn-CS" sz="2400" spc="-1" strike="noStrike">
                <a:solidFill>
                  <a:srgbClr val="002060"/>
                </a:solidFill>
                <a:latin typeface="Cambria"/>
              </a:rPr>
              <a:t>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1" descr=""/>
          <p:cNvPicPr/>
          <p:nvPr/>
        </p:nvPicPr>
        <p:blipFill>
          <a:blip r:embed="rId2"/>
          <a:stretch/>
        </p:blipFill>
        <p:spPr>
          <a:xfrm>
            <a:off x="4870440" y="1444680"/>
            <a:ext cx="3597120" cy="4784760"/>
          </a:xfrm>
          <a:prstGeom prst="rect">
            <a:avLst/>
          </a:prstGeom>
          <a:ln w="0">
            <a:noFill/>
          </a:ln>
        </p:spPr>
      </p:pic>
      <p:sp>
        <p:nvSpPr>
          <p:cNvPr id="219" name="TextBox 6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Cambria"/>
              </a:rPr>
              <a:t>ЕПИДЕМИОЛОГИЈА ТЕМПОРОМАНДИБУЛАРНОГ ПОРЕМЕЋА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85840" y="1500120"/>
            <a:ext cx="8858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Необични звукови </a:t>
            </a:r>
            <a:r>
              <a:rPr b="1" lang="sr-Latn-CS" sz="2400" spc="-1" strike="noStrike">
                <a:solidFill>
                  <a:srgbClr val="002060"/>
                </a:solidFill>
                <a:latin typeface="Cambria"/>
              </a:rPr>
              <a:t>- ш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кљоцање, пуцкетање или шкрипање приликом отварања уста</a:t>
            </a:r>
            <a:r>
              <a:rPr b="1" lang="sr-Latn-RS" sz="2400" spc="-1" strike="noStrike">
                <a:solidFill>
                  <a:srgbClr val="002060"/>
                </a:solidFill>
                <a:latin typeface="Cambr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Звукови зглоба се деле у шкљоцање или крепитациј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Шкљоцање је један звук кратког трајања који је релативно глас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2060"/>
                </a:solidFill>
                <a:latin typeface="Cambria"/>
              </a:rPr>
              <a:t>К</a:t>
            </a: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репитације </a:t>
            </a:r>
            <a:r>
              <a:rPr b="1" lang="sr-CS" sz="2000" spc="-1" strike="noStrike">
                <a:solidFill>
                  <a:srgbClr val="002060"/>
                </a:solidFill>
                <a:latin typeface="Cambria"/>
              </a:rPr>
              <a:t>су </a:t>
            </a: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мултипли звукови који се описују као шкрипањ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Бол у уху</a:t>
            </a:r>
            <a:r>
              <a:rPr b="1" lang="sr-Latn-CS" sz="2400" spc="-1" strike="noStrike">
                <a:solidFill>
                  <a:srgbClr val="002060"/>
                </a:solidFill>
                <a:latin typeface="Cambr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2060"/>
                </a:solidFill>
                <a:latin typeface="Cambria"/>
              </a:rPr>
              <a:t>Јутарња укоченост и болна осетљивост</a:t>
            </a:r>
            <a:r>
              <a:rPr b="1" lang="sr-Latn-RS" sz="2400" spc="-1" strike="noStrike">
                <a:solidFill>
                  <a:srgbClr val="002060"/>
                </a:solidFill>
                <a:latin typeface="Cambr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Отежано жвакање</a:t>
            </a:r>
            <a:r>
              <a:rPr b="1" lang="sr-Latn-RS" sz="2400" spc="-1" strike="noStrike">
                <a:solidFill>
                  <a:srgbClr val="002060"/>
                </a:solidFill>
                <a:latin typeface="Cambria"/>
              </a:rPr>
              <a:t>;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Главобоље</a:t>
            </a:r>
            <a:r>
              <a:rPr b="1" lang="sr-Latn-RS" sz="2400" spc="-1" strike="noStrike">
                <a:solidFill>
                  <a:srgbClr val="002060"/>
                </a:solidFill>
                <a:latin typeface="Cambria"/>
              </a:rPr>
              <a:t>;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2060"/>
                </a:solidFill>
                <a:latin typeface="Cambria"/>
              </a:rPr>
              <a:t>О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граничено покретање </a:t>
            </a:r>
            <a:r>
              <a:rPr b="1" lang="sr-Latn-CS" sz="2400" spc="-1" strike="noStrike">
                <a:solidFill>
                  <a:srgbClr val="002060"/>
                </a:solidFill>
                <a:latin typeface="Cambria"/>
              </a:rPr>
              <a:t>вил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2"/>
          <a:stretch/>
        </p:blipFill>
        <p:spPr>
          <a:xfrm>
            <a:off x="6924600" y="4065480"/>
            <a:ext cx="1895400" cy="2438640"/>
          </a:xfrm>
          <a:prstGeom prst="rect">
            <a:avLst/>
          </a:prstGeom>
          <a:ln w="0">
            <a:noFill/>
          </a:ln>
        </p:spPr>
      </p:pic>
      <p:sp>
        <p:nvSpPr>
          <p:cNvPr id="222" name="TextBox 6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Cambria"/>
              </a:rPr>
              <a:t>СИМПТОМИ ТЕМПОРОМАНДИБУЛАРНЕ ДИСФУН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000080" y="157140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2060"/>
                </a:solidFill>
                <a:latin typeface="Cambria"/>
              </a:rPr>
              <a:t>АНАМН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2060"/>
                </a:solidFill>
                <a:latin typeface="Cambria"/>
              </a:rPr>
              <a:t>КЛИНИЧКИ ПРЕГЛ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2060"/>
                </a:solidFill>
                <a:latin typeface="Cambria"/>
              </a:rPr>
              <a:t>РАДИОГРАФСКА ИСПИТИВ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2"/>
          <a:stretch/>
        </p:blipFill>
        <p:spPr>
          <a:xfrm>
            <a:off x="1857240" y="3071880"/>
            <a:ext cx="5224680" cy="30938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6"/>
          <p:cNvSpPr/>
          <p:nvPr/>
        </p:nvSpPr>
        <p:spPr>
          <a:xfrm>
            <a:off x="0" y="-71280"/>
            <a:ext cx="91440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ffffff"/>
                </a:solidFill>
                <a:latin typeface="Cambria"/>
              </a:rPr>
              <a:t>ДИЈАГНОЗА ТЕМПОРОМАНДИБУЛАРНИХ ДИСФУНКЦИЈ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714240" y="1428480"/>
            <a:ext cx="8072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mbria"/>
              </a:rPr>
              <a:t>Лечење се темељи на физикалној терапији, лековима и употреби оклузалних </a:t>
            </a:r>
            <a:r>
              <a:rPr b="0" lang="sr-CS" sz="2400" spc="-1" strike="noStrike">
                <a:solidFill>
                  <a:srgbClr val="002060"/>
                </a:solidFill>
                <a:latin typeface="Cambria"/>
              </a:rPr>
              <a:t>сплинтова</a:t>
            </a:r>
            <a:r>
              <a:rPr b="0" lang="hr-HR" sz="2400" spc="-1" strike="noStrike">
                <a:solidFill>
                  <a:srgbClr val="002060"/>
                </a:solidFill>
                <a:latin typeface="Cambr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mbria"/>
              </a:rPr>
              <a:t>Физикална терапија се дели на ону која смањује бол и на ону која побољшава функциј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2060"/>
                </a:solidFill>
                <a:latin typeface="Cambria"/>
              </a:rPr>
              <a:t>В</a:t>
            </a:r>
            <a:r>
              <a:rPr b="0" lang="hr-HR" sz="2400" spc="-1" strike="noStrike">
                <a:solidFill>
                  <a:srgbClr val="002060"/>
                </a:solidFill>
                <a:latin typeface="Cambria"/>
              </a:rPr>
              <a:t>лажн</a:t>
            </a:r>
            <a:r>
              <a:rPr b="0" lang="sr-CS" sz="2400" spc="-1" strike="noStrike">
                <a:solidFill>
                  <a:srgbClr val="002060"/>
                </a:solidFill>
                <a:latin typeface="Cambria"/>
              </a:rPr>
              <a:t>е</a:t>
            </a:r>
            <a:r>
              <a:rPr b="0" lang="hr-HR" sz="2400" spc="-1" strike="noStrike">
                <a:solidFill>
                  <a:srgbClr val="002060"/>
                </a:solidFill>
                <a:latin typeface="Cambria"/>
              </a:rPr>
              <a:t> и топл</a:t>
            </a:r>
            <a:r>
              <a:rPr b="0" lang="sr-CS" sz="2400" spc="-1" strike="noStrike">
                <a:solidFill>
                  <a:srgbClr val="002060"/>
                </a:solidFill>
                <a:latin typeface="Cambria"/>
              </a:rPr>
              <a:t>е</a:t>
            </a:r>
            <a:r>
              <a:rPr b="0" lang="hr-HR" sz="2400" spc="-1" strike="noStrike">
                <a:solidFill>
                  <a:srgbClr val="002060"/>
                </a:solidFill>
                <a:latin typeface="Cambria"/>
              </a:rPr>
              <a:t> облог</a:t>
            </a:r>
            <a:r>
              <a:rPr b="0" lang="sr-CS" sz="2400" spc="-1" strike="noStrike">
                <a:solidFill>
                  <a:srgbClr val="002060"/>
                </a:solidFill>
                <a:latin typeface="Cambria"/>
              </a:rPr>
              <a:t>е – </a:t>
            </a:r>
            <a:r>
              <a:rPr b="0" lang="hr-HR" sz="2400" spc="-1" strike="noStrike">
                <a:solidFill>
                  <a:srgbClr val="002060"/>
                </a:solidFill>
                <a:latin typeface="Cambria"/>
              </a:rPr>
              <a:t>10</a:t>
            </a:r>
            <a:r>
              <a:rPr b="0" lang="sr-C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hr-HR" sz="2400" spc="-1" strike="noStrike">
                <a:solidFill>
                  <a:srgbClr val="002060"/>
                </a:solidFill>
                <a:latin typeface="Cambria"/>
              </a:rPr>
              <a:t>-15 минута не дуже од 30 минута</a:t>
            </a:r>
            <a:r>
              <a:rPr b="0" lang="sr-Latn-RS" sz="2400" spc="-1" strike="noStrike">
                <a:solidFill>
                  <a:srgbClr val="00206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mbria"/>
              </a:rPr>
              <a:t>Хладне облоге</a:t>
            </a:r>
            <a:r>
              <a:rPr b="0" lang="sr-CS" sz="2400" spc="-1" strike="noStrike">
                <a:solidFill>
                  <a:srgbClr val="002060"/>
                </a:solidFill>
                <a:latin typeface="Cambria"/>
              </a:rPr>
              <a:t> - </a:t>
            </a:r>
            <a:r>
              <a:rPr b="0" lang="hr-HR" sz="2400" spc="-1" strike="noStrike">
                <a:solidFill>
                  <a:srgbClr val="002060"/>
                </a:solidFill>
                <a:latin typeface="Cambria"/>
              </a:rPr>
              <a:t> не дуже од 5-7 мину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2060"/>
                </a:solidFill>
                <a:latin typeface="Cambria"/>
              </a:rPr>
              <a:t>С</a:t>
            </a:r>
            <a:r>
              <a:rPr b="0" lang="hr-HR" sz="2400" spc="-1" strike="noStrike">
                <a:solidFill>
                  <a:srgbClr val="002060"/>
                </a:solidFill>
                <a:latin typeface="Cambria"/>
              </a:rPr>
              <a:t>прејеви (етил </a:t>
            </a:r>
            <a:r>
              <a:rPr b="0" lang="sr-CS" sz="2400" spc="-1" strike="noStrike">
                <a:solidFill>
                  <a:srgbClr val="002060"/>
                </a:solidFill>
                <a:latin typeface="Cambria"/>
              </a:rPr>
              <a:t>х</a:t>
            </a:r>
            <a:r>
              <a:rPr b="0" lang="hr-HR" sz="2400" spc="-1" strike="noStrike">
                <a:solidFill>
                  <a:srgbClr val="002060"/>
                </a:solidFill>
                <a:latin typeface="Cambria"/>
              </a:rPr>
              <a:t>лорид и флуорометан)</a:t>
            </a:r>
            <a:r>
              <a:rPr b="0" lang="sr-Latn-RS" sz="2400" spc="-1" strike="noStrike">
                <a:solidFill>
                  <a:srgbClr val="00206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2060"/>
                </a:solidFill>
                <a:latin typeface="Cambria"/>
              </a:rPr>
              <a:t>А</a:t>
            </a:r>
            <a:r>
              <a:rPr b="0" lang="hr-HR" sz="2400" spc="-1" strike="noStrike">
                <a:solidFill>
                  <a:srgbClr val="002060"/>
                </a:solidFill>
                <a:latin typeface="Cambria"/>
              </a:rPr>
              <a:t>налгети</a:t>
            </a:r>
            <a:r>
              <a:rPr b="0" lang="sr-CS" sz="2400" spc="-1" strike="noStrike">
                <a:solidFill>
                  <a:srgbClr val="002060"/>
                </a:solidFill>
                <a:latin typeface="Cambria"/>
              </a:rPr>
              <a:t>ци</a:t>
            </a:r>
            <a:r>
              <a:rPr b="0" lang="hr-HR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2060"/>
                </a:solidFill>
                <a:latin typeface="Cambria"/>
              </a:rPr>
              <a:t>- </a:t>
            </a:r>
            <a:r>
              <a:rPr b="0" lang="hr-HR" sz="2400" spc="-1" strike="noStrike">
                <a:solidFill>
                  <a:srgbClr val="002060"/>
                </a:solidFill>
                <a:latin typeface="Cambria"/>
              </a:rPr>
              <a:t>нестероидни антиинфламатор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2060"/>
                </a:solidFill>
                <a:latin typeface="Cambria"/>
              </a:rPr>
              <a:t>А</a:t>
            </a:r>
            <a:r>
              <a:rPr b="0" lang="hr-HR" sz="2400" spc="-1" strike="noStrike">
                <a:solidFill>
                  <a:srgbClr val="002060"/>
                </a:solidFill>
                <a:latin typeface="Cambria"/>
              </a:rPr>
              <a:t>спирин, ацетаминофен и ибупроф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mbria"/>
              </a:rPr>
              <a:t>Антиинфламаторне лекове је потребно узимати 1-2 недеље како би постигли делотворне концентрације у кр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5"/>
          <p:cNvSpPr/>
          <p:nvPr/>
        </p:nvSpPr>
        <p:spPr>
          <a:xfrm>
            <a:off x="0" y="-71280"/>
            <a:ext cx="9144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400" spc="-1" strike="noStrike">
                <a:solidFill>
                  <a:srgbClr val="ffffff"/>
                </a:solidFill>
                <a:latin typeface="Cambria"/>
              </a:rPr>
              <a:t>ЛЕЧЕЊЕ ТЕМПОРОМАНДИБУЛАРНИХ ДИСФУНКЦИЈ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500040" y="157176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9960" indent="-21996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Оклузални сплинтови у 75% случајева редукују бол</a:t>
            </a:r>
            <a:r>
              <a:rPr b="1" lang="sr-Latn-RS" sz="2000" spc="-1" strike="noStrike">
                <a:solidFill>
                  <a:srgbClr val="00206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Cambria"/>
              </a:rPr>
              <a:t>Код пацијената са хроничним </a:t>
            </a:r>
            <a:r>
              <a:rPr b="1" i="1" lang="pl-PL" sz="2000" spc="-1" strike="noStrike">
                <a:solidFill>
                  <a:srgbClr val="002060"/>
                </a:solidFill>
                <a:latin typeface="Cambria"/>
              </a:rPr>
              <a:t>ТМ</a:t>
            </a:r>
            <a:r>
              <a:rPr b="1" i="1" lang="pl-PL" sz="2000" spc="-1" strike="noStrike">
                <a:solidFill>
                  <a:srgbClr val="002060"/>
                </a:solidFill>
                <a:latin typeface="Arial"/>
              </a:rPr>
              <a:t>P</a:t>
            </a:r>
            <a:r>
              <a:rPr b="1" i="1" lang="pl-PL" sz="2000" spc="-1" strike="noStrike">
                <a:solidFill>
                  <a:srgbClr val="002060"/>
                </a:solidFill>
                <a:latin typeface="Cambria"/>
              </a:rPr>
              <a:t>,</a:t>
            </a:r>
            <a:r>
              <a:rPr b="1" lang="pl-PL" sz="2000" spc="-1" strike="noStrike">
                <a:solidFill>
                  <a:srgbClr val="002060"/>
                </a:solidFill>
                <a:latin typeface="Cambria"/>
              </a:rPr>
              <a:t> ова терапија се може употпунити 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mbria"/>
              </a:rPr>
              <a:t>психолошком потпо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mbria"/>
              </a:rPr>
              <a:t>когнитивно-бихевиоралном терапиј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mbria"/>
              </a:rPr>
              <a:t>релаксационом терапиј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mbria"/>
              </a:rPr>
              <a:t>малим дозама трицикличних антидепрес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90000"/>
                </a:solidFill>
                <a:latin typeface="Cambria"/>
              </a:rPr>
              <a:t>Хируршка терапија </a:t>
            </a:r>
            <a:r>
              <a:rPr b="1" lang="sr-CS" sz="2000" spc="-1" strike="noStrike">
                <a:solidFill>
                  <a:srgbClr val="990000"/>
                </a:solidFill>
                <a:latin typeface="Cambria"/>
              </a:rPr>
              <a:t>обољења </a:t>
            </a:r>
            <a:r>
              <a:rPr b="1" lang="pl-PL" sz="2000" spc="-1" strike="noStrike">
                <a:solidFill>
                  <a:srgbClr val="990000"/>
                </a:solidFill>
                <a:latin typeface="Cambria"/>
              </a:rPr>
              <a:t>темпоромандибуларног бола  није терапијска опција</a:t>
            </a:r>
            <a:r>
              <a:rPr b="1" lang="pl-PL" sz="2000" spc="-1" strike="noStrike">
                <a:solidFill>
                  <a:srgbClr val="99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"/>
          <p:cNvPicPr/>
          <p:nvPr/>
        </p:nvPicPr>
        <p:blipFill>
          <a:blip r:embed="rId2"/>
          <a:srcRect l="0" t="0" r="1762" b="0"/>
          <a:stretch/>
        </p:blipFill>
        <p:spPr>
          <a:xfrm>
            <a:off x="5715000" y="4214880"/>
            <a:ext cx="2994120" cy="2187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"/>
          <p:cNvPicPr/>
          <p:nvPr/>
        </p:nvPicPr>
        <p:blipFill>
          <a:blip r:embed="rId3"/>
          <a:srcRect l="0" t="0" r="2142" b="4298"/>
          <a:stretch/>
        </p:blipFill>
        <p:spPr>
          <a:xfrm>
            <a:off x="5643720" y="1571760"/>
            <a:ext cx="2982600" cy="23382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7"/>
          <p:cNvSpPr/>
          <p:nvPr/>
        </p:nvSpPr>
        <p:spPr>
          <a:xfrm>
            <a:off x="0" y="0"/>
            <a:ext cx="9144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400" spc="-1" strike="noStrike">
                <a:solidFill>
                  <a:srgbClr val="ffffff"/>
                </a:solidFill>
                <a:latin typeface="Cambria"/>
              </a:rPr>
              <a:t>ЛЕЧЕЊЕ ТЕМПОРОМАНДИБУЛАРНИХ ДИСФУНКЦИЈ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КОНТУЗИЈЕ</a:t>
            </a:r>
            <a:r>
              <a:rPr b="1" lang="sr-Latn-CS" sz="4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ТМ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13840" y="128592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вред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дел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ож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ћ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иректни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ндиректни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ејство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ил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вред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дел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ог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ит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творе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шт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аћен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вредам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колних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еких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кив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ног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чешћ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ндирект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вред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стај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сле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ад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дар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де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Latn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авету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ек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ашаст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схра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ов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аксималн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штедел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сл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48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часов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добијеној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раум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аветуј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опл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ув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блоз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брзал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есорпциј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злив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ј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стој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дел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ад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ошл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кутн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олов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ре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име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оплот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аветуј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ежб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твара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ТРАУМАТСКА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ОШТЕЋЕЊА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ДИСК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од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дејством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трауме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може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доћи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луксације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дискус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-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нарочито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удару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редео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браде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његовог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цепањ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чему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не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мор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бити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фрактуре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том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ределу</a:t>
            </a:r>
            <a:r>
              <a:rPr b="0" lang="sr-Latn-RS" sz="2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tmj_anatomy"/>
          <p:cNvPicPr/>
          <p:nvPr/>
        </p:nvPicPr>
        <p:blipFill>
          <a:blip r:embed="rId2"/>
          <a:srcRect l="0" t="0" r="0" b="3937"/>
          <a:stretch/>
        </p:blipFill>
        <p:spPr>
          <a:xfrm>
            <a:off x="2928960" y="3624120"/>
            <a:ext cx="32860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ПРЕДЊА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ЛУКСАЦИЈА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ДИСК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285920"/>
            <a:ext cx="52862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д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луксаци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искус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н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двојен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дњег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ел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апсул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ак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лак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musculus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pter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y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goideus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lateralis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влач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искус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м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пре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н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ад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зал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змеђ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caput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mandibulae</a:t>
            </a:r>
            <a:r>
              <a:rPr b="0" i="1" lang="sr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tuberculum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articulare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ом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capitulum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mandibulae</a:t>
            </a:r>
            <a:r>
              <a:rPr b="0" i="1" lang="sr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ејство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ишић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тварач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узим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ест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луксираног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искус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ној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ам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ремећај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грижај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д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твореног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дел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фронта</a:t>
            </a:r>
            <a:r>
              <a:rPr b="0" lang="sr-Latn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аћен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оловим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крет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тварањ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граничени</a:t>
            </a:r>
            <a:r>
              <a:rPr b="0" lang="sr-Latn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6" descr="15032W"/>
          <p:cNvPicPr/>
          <p:nvPr/>
        </p:nvPicPr>
        <p:blipFill>
          <a:blip r:embed="rId2"/>
          <a:stretch/>
        </p:blipFill>
        <p:spPr>
          <a:xfrm>
            <a:off x="5357880" y="2571840"/>
            <a:ext cx="378612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2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ТЕМПОРОМАНДИБУЛАРНИ  ЗГЛО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TMJ%20joint"/>
          <p:cNvPicPr/>
          <p:nvPr/>
        </p:nvPicPr>
        <p:blipFill>
          <a:blip r:embed="rId2"/>
          <a:stretch/>
        </p:blipFill>
        <p:spPr>
          <a:xfrm>
            <a:off x="990720" y="1523880"/>
            <a:ext cx="714348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ЗАДЊА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ЛУКСАЦИЈА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ДИСК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адњ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луксаци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искус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н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ејством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раум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двојен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дњег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ел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апсул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чим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елиминисан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кциј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Cambria"/>
              </a:rPr>
              <a:t>m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pterigoideusa</a:t>
            </a:r>
            <a:r>
              <a:rPr b="0" i="1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lateralisa</a:t>
            </a:r>
            <a:r>
              <a:rPr b="0" i="1" lang="sr-Latn-R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искус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вучен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м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зад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кљештен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з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ндил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ак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немогућав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ормалан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ложај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атвореним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стима</a:t>
            </a:r>
            <a:r>
              <a:rPr b="0" lang="sr-Latn-R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ад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ђ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кутн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имптом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ношењ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раум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ож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ких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ацијенат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авит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сећај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а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шт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рећ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глоб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ог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јавит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репитаци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акођ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граниченост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тварањ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ТРАУМАТСКА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ЛУКСАЦИЈА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МАНДИБУ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Луксациј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андибул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ож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бит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м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пред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зад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латералн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горе</a:t>
            </a:r>
            <a:r>
              <a:rPr b="0" lang="sr-Latn-R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актичн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зевш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луксациј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андибул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авил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м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пред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ј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дњ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луксација</a:t>
            </a:r>
            <a:r>
              <a:rPr b="0" lang="sr-Latn-R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стал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зузетн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етк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р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д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ејством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ил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лом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дел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рат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г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шт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ћ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ћ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к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вих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луксација</a:t>
            </a:r>
            <a:r>
              <a:rPr b="0" lang="sr-Latn-R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бог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ог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ћ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бит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писан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ам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дњ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луксација</a:t>
            </a:r>
            <a:r>
              <a:rPr b="0" lang="sr-Latn-R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876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ТРАУМАТСКА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ЛУКСАЦИЈА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МАНДИБУ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13840" y="1285560"/>
            <a:ext cx="85726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д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луксаци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ј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ож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ит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дностра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бостра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ејство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ил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б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д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главиц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д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к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уберкулум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ртикулар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пре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сле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уч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ишић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тварач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ивај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фиксиран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ложај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спре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зна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sr-Latn-RS" sz="2200" spc="-1" strike="noStrike">
                <a:solidFill>
                  <a:srgbClr val="000000"/>
                </a:solidFill>
                <a:latin typeface="Cambria"/>
              </a:rPr>
              <a:t>tuberculum auricula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ај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чин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немогућен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крет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м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за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твара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к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луксаци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андибул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езнатних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зрок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ач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твара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ева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мех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томатолошк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нтервенци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)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говорим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хабитуелној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луксациј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линичк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лик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хабитуел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рауматск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луксаци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стовет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ам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шт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хабитуел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луксаци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мам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датк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намнез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ећ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ш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ут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гађал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ацијент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јчешћ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тањ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а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зврш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епозицију</a:t>
            </a:r>
            <a:r>
              <a:rPr b="0" lang="sr-Latn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ЈЕДНОСТРАНА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ЛУКС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5840" y="121428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дностра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луксаци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рауматск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луксаци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цапут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андибула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спре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знад</a:t>
            </a:r>
            <a:r>
              <a:rPr b="0" lang="sr-Latn-R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sr-Latn-RS" sz="2200" spc="-1" strike="noStrike">
                <a:solidFill>
                  <a:srgbClr val="000000"/>
                </a:solidFill>
                <a:latin typeface="Cambria"/>
              </a:rPr>
              <a:t>tuberculum auriculare</a:t>
            </a:r>
            <a:r>
              <a:rPr b="0" i="1" lang="sr-Latn-RS" sz="1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луксира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тра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зраже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евијациј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андибул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м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дравој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тран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мерање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центр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грижаја</a:t>
            </a:r>
            <a:r>
              <a:rPr b="0" lang="sr-Latn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алпир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аз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ам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ж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зна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ог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дел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вучена</a:t>
            </a:r>
            <a:r>
              <a:rPr b="0" lang="sr-Latn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клузиј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ремеће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д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твореног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грижај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луксира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тра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крштеног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драв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тране</a:t>
            </a:r>
            <a:r>
              <a:rPr b="0" lang="sr-Latn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ављај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олов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а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ремећај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функци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6" descr="image141"/>
          <p:cNvPicPr/>
          <p:nvPr/>
        </p:nvPicPr>
        <p:blipFill>
          <a:blip r:embed="rId2"/>
          <a:stretch/>
        </p:blipFill>
        <p:spPr>
          <a:xfrm>
            <a:off x="1357200" y="4643280"/>
            <a:ext cx="3262320" cy="18748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image143"/>
          <p:cNvPicPr/>
          <p:nvPr/>
        </p:nvPicPr>
        <p:blipFill>
          <a:blip r:embed="rId3"/>
          <a:stretch/>
        </p:blipFill>
        <p:spPr>
          <a:xfrm>
            <a:off x="4786200" y="4643280"/>
            <a:ext cx="29736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ОБОСТРАНА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ЛУКС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бостран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дњ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луксаци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б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цапут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андибула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лаз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спред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знад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sr-Latn-RS" sz="2600" spc="-1" strike="noStrike">
                <a:solidFill>
                  <a:srgbClr val="000000"/>
                </a:solidFill>
                <a:latin typeface="Cambria"/>
              </a:rPr>
              <a:t>tuberculum auricula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станк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бостран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луксаци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ак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тежан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говор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ак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могућ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зет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намнестичк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датке</a:t>
            </a:r>
            <a:r>
              <a:rPr b="0" lang="sr-Latn-R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иметричн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творен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њ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илиц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целост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мерен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пред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дол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ажљивом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итиск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де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брад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њ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илиц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федерира</a:t>
            </a:r>
            <a:r>
              <a:rPr b="0" lang="sr-Latn-R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клузиј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ремећен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ид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оталн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пертогнати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инудн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геније</a:t>
            </a:r>
            <a:r>
              <a:rPr b="0" lang="sr-Latn-R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б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глобн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стор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азн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ид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вученост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ж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знад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азних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глобних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ама</a:t>
            </a:r>
            <a:r>
              <a:rPr b="0" lang="sr-Latn-R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ЛЕЧЕЊЕ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ЛУКСА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0920" y="118908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-174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епозициј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реб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радит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шт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огућ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р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асни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аког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грч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ишић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тварач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епозициј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чин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ледећ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чин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46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ацијент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деће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ложај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чврсти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зглавље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Глав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идржав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систент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алчев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тављај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гриз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врши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њих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олар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стал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четир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ст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бухват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екстраоралн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аз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андибул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нажн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влач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њ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лиц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дол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то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за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гор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колик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ад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бостраној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луксациј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реб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кушават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стовремен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раћа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б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цапут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андибула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ећ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в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радит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дн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дмах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сл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ог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руг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тран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Luxation2"/>
          <p:cNvPicPr/>
          <p:nvPr/>
        </p:nvPicPr>
        <p:blipFill>
          <a:blip r:embed="rId2"/>
          <a:srcRect l="0" t="0" r="0" b="5911"/>
          <a:stretch/>
        </p:blipFill>
        <p:spPr>
          <a:xfrm>
            <a:off x="2571840" y="4848120"/>
            <a:ext cx="39956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ffffff"/>
                </a:solidFill>
                <a:latin typeface="Cambria"/>
              </a:rPr>
              <a:t>ПРЕЛОМИ</a:t>
            </a:r>
            <a:r>
              <a:rPr b="1" lang="en-US" sz="3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400" spc="-1" strike="noStrike">
                <a:solidFill>
                  <a:srgbClr val="ffffff"/>
                </a:solidFill>
                <a:latin typeface="Cambria"/>
              </a:rPr>
              <a:t>КОНДИЛАРНОГ</a:t>
            </a:r>
            <a:r>
              <a:rPr b="1" lang="en-US" sz="3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400" spc="-1" strike="noStrike">
                <a:solidFill>
                  <a:srgbClr val="ffffff"/>
                </a:solidFill>
                <a:latin typeface="Cambria"/>
              </a:rPr>
              <a:t>НАСТАВК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Јављају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золовано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чешћ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дружени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ломим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руг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локализациј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њој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вилици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вај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јчешћ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фрактурирани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ео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астоји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глав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(caput mandibulae)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врат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(collum mandibulae)</a:t>
            </a:r>
            <a:r>
              <a:rPr b="0" i="1" lang="sr-Latn-R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еханизму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станк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лом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ндиларног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ставк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коро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скључиво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ндиректан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тј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ил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бично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ејствуј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делу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браде</a:t>
            </a:r>
            <a:r>
              <a:rPr b="0" lang="sr-Latn-R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ласификују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а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1)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кондиларног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ставк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без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ислокације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2)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еломе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кондиларног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ставк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ислокацијом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3)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лукасционе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еломе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кондиларног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ставка</a:t>
            </a:r>
            <a:r>
              <a:rPr b="0" lang="sr-Latn-R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6" descr="aps-39-291-g007-l"/>
          <p:cNvPicPr/>
          <p:nvPr/>
        </p:nvPicPr>
        <p:blipFill>
          <a:blip r:embed="rId2"/>
          <a:stretch/>
        </p:blipFill>
        <p:spPr>
          <a:xfrm>
            <a:off x="2071800" y="4714920"/>
            <a:ext cx="500040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ffffff"/>
                </a:solidFill>
                <a:latin typeface="Cambria"/>
              </a:rPr>
              <a:t>ПРЕЛОМИ</a:t>
            </a:r>
            <a:r>
              <a:rPr b="1" lang="en-US" sz="3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400" spc="-1" strike="noStrike">
                <a:solidFill>
                  <a:srgbClr val="ffffff"/>
                </a:solidFill>
                <a:latin typeface="Cambria"/>
              </a:rPr>
              <a:t>КОНДИЛАРНОГ</a:t>
            </a:r>
            <a:r>
              <a:rPr b="1" lang="en-US" sz="3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400" spc="-1" strike="noStrike">
                <a:solidFill>
                  <a:srgbClr val="ffffff"/>
                </a:solidFill>
                <a:latin typeface="Cambria"/>
              </a:rPr>
              <a:t>НАСТАВКА</a:t>
            </a:r>
            <a:r>
              <a:rPr b="1" lang="sr-Latn-RS" sz="3400" spc="-1" strike="noStrike">
                <a:solidFill>
                  <a:srgbClr val="ffffff"/>
                </a:solidFill>
                <a:latin typeface="Cambria"/>
              </a:rPr>
              <a:t> - </a:t>
            </a:r>
            <a:r>
              <a:rPr b="1" lang="sr-CS" sz="3400" spc="-1" strike="noStrike">
                <a:solidFill>
                  <a:srgbClr val="ffffff"/>
                </a:solidFill>
                <a:latin typeface="Cambria"/>
              </a:rPr>
              <a:t>класификациј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1280" y="1332000"/>
            <a:ext cx="900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8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ломи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ндиларног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ставк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без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ислокациј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релативно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ретко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фрактурн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линиј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јчешћ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линеарно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преч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8680" indent="-238680"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имптоматологиј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оскудн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трауматски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едем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еделу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лабо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зражен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оремећаји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оклузије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едостају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инимал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8680" indent="-238680"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аву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ијагнозу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пућују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функционалне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тегобе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окушају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отварањ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затварањ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8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2)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ломи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ндиларног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ствак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ислокацијом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-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јчешћ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врст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лом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в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локализациј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Ретко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золовани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чешћ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дружени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ломим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енталн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региј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протн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тран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имфиз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нгулус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андибул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8680" indent="-238680"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ислокациј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кондил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бити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пред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едијално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зад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латерално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знатно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ређ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8680" indent="-238680"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Разлог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што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јчешћ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ислокациј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кондиларног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ставк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ем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пред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едијално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јесте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ипој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mbria"/>
              </a:rPr>
              <a:t>m. pterygoideus lateralis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врату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вили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8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3)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Луксациони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ломи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ндиларног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ставк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релативно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ретки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ат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х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тегоб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линичк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лик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зражениј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его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тходних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ло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8680" indent="-238680"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ових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цапут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андибулае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пушт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зглобну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јаму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што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ате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овреде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капсуле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зглобних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лигаменат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Cambria"/>
              </a:rPr>
              <a:t>ЛЕЧЕЊЕ</a:t>
            </a: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Cambria"/>
              </a:rPr>
              <a:t>ПОВРЕДА</a:t>
            </a: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Cambria"/>
              </a:rPr>
              <a:t>ДОЊЕ</a:t>
            </a: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Cambria"/>
              </a:rPr>
              <a:t>ВИЛИЦЕ</a:t>
            </a:r>
            <a:r>
              <a:rPr b="1" lang="sr-Latn-CS" sz="3200" spc="-1" strike="noStrike">
                <a:solidFill>
                  <a:srgbClr val="ffffff"/>
                </a:solidFill>
                <a:latin typeface="Cambria"/>
              </a:rPr>
              <a:t>-</a:t>
            </a:r>
            <a:r>
              <a:rPr b="1" lang="sr-CS" sz="3200" spc="-1" strike="noStrike">
                <a:solidFill>
                  <a:srgbClr val="ffffff"/>
                </a:solidFill>
                <a:latin typeface="Cambria"/>
              </a:rPr>
              <a:t>КОНДИЛАРНОГ</a:t>
            </a:r>
            <a:r>
              <a:rPr b="1" lang="sr-Latn-CS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Cambria"/>
              </a:rPr>
              <a:t>НАСТА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57120" y="1999800"/>
            <a:ext cx="850104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4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Избор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методе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лечења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фрактура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доње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вилице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не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зависи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само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од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врсте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и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локализације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прелома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,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општег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стања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пацијента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,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већ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и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од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броја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и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стања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зуба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Конзервативно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леч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Хируршко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леч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КОНЗЕРВАТИВНО</a:t>
            </a:r>
            <a:r>
              <a:rPr b="1" lang="en-U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ЛЕЧЕ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2060"/>
                </a:solidFill>
                <a:latin typeface="Cambria"/>
              </a:rPr>
              <a:t>КОНЗЕРВАТИВНО</a:t>
            </a:r>
            <a:r>
              <a:rPr b="0" lang="en-US" sz="32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sr-CS" sz="3200" spc="-1" strike="noStrike">
                <a:solidFill>
                  <a:srgbClr val="002060"/>
                </a:solidFill>
                <a:latin typeface="Cambria"/>
              </a:rPr>
              <a:t>ЛЕЧЕЊЕ</a:t>
            </a:r>
            <a:r>
              <a:rPr b="0" lang="en-US" sz="32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sr-CS" sz="3200" spc="-1" strike="noStrike">
                <a:solidFill>
                  <a:srgbClr val="002060"/>
                </a:solidFill>
                <a:latin typeface="Cambria"/>
              </a:rPr>
              <a:t>ПОДРАЗУМ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mbria"/>
              </a:rPr>
              <a:t>I </a:t>
            </a:r>
            <a:r>
              <a:rPr b="0" lang="sr-CS" sz="3200" spc="-1" strike="noStrike">
                <a:solidFill>
                  <a:srgbClr val="002060"/>
                </a:solidFill>
                <a:latin typeface="Cambria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Cambria"/>
              </a:rPr>
              <a:t>- </a:t>
            </a:r>
            <a:r>
              <a:rPr b="0" lang="sr-CS" sz="3200" spc="-1" strike="noStrike">
                <a:solidFill>
                  <a:srgbClr val="002060"/>
                </a:solidFill>
                <a:latin typeface="Cambria"/>
              </a:rPr>
              <a:t>претход</a:t>
            </a:r>
            <a:r>
              <a:rPr b="0" lang="sr-RS" sz="3200" spc="-1" strike="noStrike">
                <a:solidFill>
                  <a:srgbClr val="002060"/>
                </a:solidFill>
                <a:latin typeface="Cambria"/>
              </a:rPr>
              <a:t>н</a:t>
            </a:r>
            <a:r>
              <a:rPr b="0" lang="sr-CS" sz="3200" spc="-1" strike="noStrike">
                <a:solidFill>
                  <a:srgbClr val="002060"/>
                </a:solidFill>
                <a:latin typeface="Cambria"/>
              </a:rPr>
              <a:t>е</a:t>
            </a:r>
            <a:r>
              <a:rPr b="0" lang="en-US" sz="32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sr-CS" sz="3200" spc="-1" strike="noStrike">
                <a:solidFill>
                  <a:srgbClr val="002060"/>
                </a:solidFill>
                <a:latin typeface="Cambria"/>
              </a:rPr>
              <a:t>ме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mbria"/>
              </a:rPr>
              <a:t>II </a:t>
            </a:r>
            <a:r>
              <a:rPr b="0" lang="sr-CS" sz="32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Cambria"/>
              </a:rPr>
              <a:t>- </a:t>
            </a:r>
            <a:r>
              <a:rPr b="0" lang="sr-CS" sz="3200" spc="-1" strike="noStrike">
                <a:solidFill>
                  <a:srgbClr val="002060"/>
                </a:solidFill>
                <a:latin typeface="Cambria"/>
              </a:rPr>
              <a:t>репози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mbria"/>
              </a:rPr>
              <a:t>III - </a:t>
            </a:r>
            <a:r>
              <a:rPr b="0" lang="sr-CS" sz="3200" spc="-1" strike="noStrike">
                <a:solidFill>
                  <a:srgbClr val="002060"/>
                </a:solidFill>
                <a:latin typeface="Cambria"/>
              </a:rPr>
              <a:t>имобилиз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7" descr="Archbars_Inter-Maxillary_Fixation-741x558"/>
          <p:cNvPicPr/>
          <p:nvPr/>
        </p:nvPicPr>
        <p:blipFill>
          <a:blip r:embed="rId2"/>
          <a:stretch/>
        </p:blipFill>
        <p:spPr>
          <a:xfrm>
            <a:off x="4643280" y="3286080"/>
            <a:ext cx="31086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ОБОЉЕЊА</a:t>
            </a:r>
            <a:r>
              <a:rPr b="1" lang="sr-Latn-CS" sz="4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ТМ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14200" y="1285560"/>
            <a:ext cx="87156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огућност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еловањ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различитих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атолошких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оцес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виличн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глоб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тежав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њихов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дел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бјективн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тегоб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стај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дел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ог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бит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след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омен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амо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глоб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след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функционалних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метњи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имарн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бољењ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рганск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бољењ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ј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чињ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глоб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ј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следиц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ог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мај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функционалн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метњ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ртроз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нкилоз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јчешћ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асн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следиц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имарног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бољењ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л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ог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бит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следиц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функционалних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метњ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томатогнатног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истем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image001"/>
          <p:cNvPicPr/>
          <p:nvPr/>
        </p:nvPicPr>
        <p:blipFill>
          <a:blip r:embed="rId2"/>
          <a:stretch/>
        </p:blipFill>
        <p:spPr>
          <a:xfrm>
            <a:off x="1285920" y="4357800"/>
            <a:ext cx="656280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КОНЗЕРВАТИВНО</a:t>
            </a:r>
            <a:r>
              <a:rPr b="1" lang="en-U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ЛЕЧЕ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13840" y="150012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епозициј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избежн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анипулациј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ј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ади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вих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лом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ислокацијом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фрагменат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циљу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њиховог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раћањ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ормалну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натомску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зицију</a:t>
            </a: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0" indent="-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еодвојива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д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мобилизације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јој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бавезно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тходи</a:t>
            </a: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20" indent="-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нзервативна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-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оже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звршити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ануелно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колико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фрагменти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ису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кљештени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ракцијом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-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јчешће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гуменим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стеновима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чијом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смереном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учом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ислоцирани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фрагменти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воде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жељени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ложај</a:t>
            </a: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20" indent="-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рвава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хируршка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епозиција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- 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чини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колико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нзервативним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чином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е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ожемо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бити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довољавајући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ложај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фрагмената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ли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акође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обичајени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ступак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лечењу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творених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лома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004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КОНЗЕРВАТИВНО</a:t>
            </a:r>
            <a:r>
              <a:rPr b="1" lang="en-U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ЛЕЧЕЊЕ</a:t>
            </a:r>
            <a:br>
              <a:rPr sz="3600"/>
            </a:b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имобилиз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стоји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колико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сновних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слов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ј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имењено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мобилизационо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редство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реб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спуни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звољав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крет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фрагменат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дноставно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лако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стављањ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што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ањ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рауматизуј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уб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гингиву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табилно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двиђено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рем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могућав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схрану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државањ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бр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хигијен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сн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упљ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бзиром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циљ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рем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есто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ао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редство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ј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имењуј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мобилизациј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ож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бити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ивре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ефинити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ТУМОРИ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ТМ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13840" y="1071360"/>
            <a:ext cx="88585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умор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дел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личног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рл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етк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ре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дел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ениг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алиг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умор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ор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одит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ачу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дел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умор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ј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стај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ј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стај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колин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кундарн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г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хватај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имарн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енигн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умор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c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aput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mandibulae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ог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ит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стеом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сифицирајућ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хондром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фиброостеом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о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ифицирају</a:t>
            </a: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ћ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иксо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стеосарком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хондросарком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ф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бросарком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м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етастазе</a:t>
            </a: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6" descr="ANd9GcSLr8MvgTw4JADi-Y2SOljvZOv_wNI3oOv9967HBB0mq0xp52Ox"/>
          <p:cNvPicPr/>
          <p:nvPr/>
        </p:nvPicPr>
        <p:blipFill>
          <a:blip r:embed="rId2"/>
          <a:stretch/>
        </p:blipFill>
        <p:spPr>
          <a:xfrm>
            <a:off x="4143240" y="3857760"/>
            <a:ext cx="48294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СИМПТОМИ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ОБОЉЕЊА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ТМ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43000" y="1213920"/>
            <a:ext cx="83296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болов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понтан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едел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лиц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врат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лепоочном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едел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окрет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алпациј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алпациј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астикаторних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нфр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упрахиоидних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ишић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као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ишић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врат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раменог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ојас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гутањ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понтан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окретим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еког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епц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језик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тежан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тварањ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пису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а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граничен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крет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евијациј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тварањ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хоризонтално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вертикално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авцу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репитаци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шкљоцањ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глобовим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метњ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кретим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атварањ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болов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шим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разн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метњ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дел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х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метњ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гутањ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љувачк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сећај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ечењ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стим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есвестиц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ПРИМАРНА</a:t>
            </a:r>
            <a:r>
              <a:rPr b="1" lang="sr-Latn-CS" sz="4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ОБОЉЕЊА</a:t>
            </a:r>
            <a:r>
              <a:rPr b="1" lang="sr-Latn-CS" sz="4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ТМ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99760" y="1714680"/>
            <a:ext cx="79009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римарн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обољењ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знатно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ређ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него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њихов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секундарн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ојав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кој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настаје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услед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арафункционалних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сметњи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стоматогнатног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систем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Релативно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ретк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ојав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римарног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обољењ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крије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велике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могућности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огрешне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дијагноз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римарн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обољењ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убрајамо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артритисе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трауматск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оштећењ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туморе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оремећаје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развитку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ЗАПАЉЕЊА</a:t>
            </a:r>
            <a:r>
              <a:rPr b="1" lang="sr-Latn-CS" sz="4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ТМ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Запаљењ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доњовиличног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могу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бити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Акут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Хроничн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Специфич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Неспецифична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ЗАПАЉЕЊА</a:t>
            </a:r>
            <a:r>
              <a:rPr b="1" lang="sr-Latn-CS" sz="4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ТМ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нфекциј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глобног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стор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зазивај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тафил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трептокок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нфекци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ож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ћ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хематоген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л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зузетн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етк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ног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чешћ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нфекциј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дир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з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колин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глобн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стор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per</a:t>
            </a:r>
            <a:r>
              <a:rPr b="0" i="1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continuitatem</a:t>
            </a:r>
            <a:r>
              <a:rPr b="0" i="1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јчешћ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зрок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титис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еди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урулент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ст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ак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стеомијелитис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ож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др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глобн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стор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ор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мат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ид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огућност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ширењ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нфекци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след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специфичног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кутног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аротитис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а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вред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дел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ЗАПАЉЕЊА</a:t>
            </a:r>
            <a:r>
              <a:rPr b="1" lang="sr-Latn-CS" sz="4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ТМ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5840" y="140328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гл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јав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олов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дел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стовремен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зна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спре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рагус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х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јављу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ток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рл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олан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дир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итиско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радн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е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јављу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ак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ол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хваћено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у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твара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олн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граничен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ом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њ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лиц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крећ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болел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трану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ировањ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јчешћ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узим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зв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очн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ложај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ј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евијаци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центр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грижај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м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дравој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тран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онетијев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ложај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)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шт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нач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главиц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олес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тра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лак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мере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м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пре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р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н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остор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биј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ећ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премин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сле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паљивог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ексудат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шт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ат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сок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емператур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стал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пшт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нац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нфекциј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ilos</cp:lastModifiedBy>
  <dcterms:modified xsi:type="dcterms:W3CDTF">2015-09-02T16:47:19Z</dcterms:modified>
  <cp:revision>760</cp:revision>
  <dc:subject/>
  <dc:title>Diapositiva 1</dc:title>
</cp:coreProperties>
</file>